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2.jpeg" ContentType="image/jpeg"/>
  <Override PartName="/ppt/media/image25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D30B-9B78-4E02-8044-F0883D48F5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22ECD-D9E5-4D98-AACA-82E09F3266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AC95C-DEDB-4373-95B1-49E1A5BD70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ternationa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wand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ster Comm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deployed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purchase being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trong, cross-agency 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1219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Start Earl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to Receipt: ~ 120 days (ea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 in place long before you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Schools, Infrastructure, Saturatio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osts,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onths in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70,000 ship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,000 by year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152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ech Speculati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0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P X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l-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x.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209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8"/>
          <a:stretch/>
        </p:blipFill>
        <p:spPr>
          <a:xfrm>
            <a:off x="1623960" y="2554200"/>
            <a:ext cx="684360" cy="70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9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0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1"/>
          <a:stretch/>
        </p:blipFill>
        <p:spPr>
          <a:xfrm>
            <a:off x="503280" y="1684440"/>
            <a:ext cx="700200" cy="20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2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14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5"/>
          <a:stretch/>
        </p:blipFill>
        <p:spPr>
          <a:xfrm>
            <a:off x="3697200" y="2471760"/>
            <a:ext cx="7113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Vital Partnership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1295280" cy="86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04920" y="2606760"/>
            <a:ext cx="1371600" cy="822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3429000" y="914400"/>
            <a:ext cx="1371600" cy="690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3505320" y="1828800"/>
            <a:ext cx="114300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6"/>
          <a:stretch/>
        </p:blipFill>
        <p:spPr>
          <a:xfrm>
            <a:off x="1828800" y="1860480"/>
            <a:ext cx="1447920" cy="73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7"/>
          <a:stretch/>
        </p:blipFill>
        <p:spPr>
          <a:xfrm>
            <a:off x="457200" y="182880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8"/>
          <a:stretch/>
        </p:blipFill>
        <p:spPr>
          <a:xfrm>
            <a:off x="1828800" y="2708280"/>
            <a:ext cx="1403280" cy="79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9"/>
          <a:stretch/>
        </p:blipFill>
        <p:spPr>
          <a:xfrm>
            <a:off x="3429000" y="2670120"/>
            <a:ext cx="1371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e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is own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7:40Z</dcterms:modified>
  <cp:revision>95</cp:revision>
  <dc:subject/>
  <dc:title>One Laptop per Child</dc:title>
</cp:coreProperties>
</file>